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848-09C1-412A-B911-9D0E5868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B5B-6CA8-40DB-8B81-4E459DB9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76B-A54F-4FA9-A883-27437C77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E9C-BC69-4E81-9671-24749EF2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028-21AA-4A25-8433-80E48EBF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7CF-A80F-4F82-B1AA-A8A23BFE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3F6-4CDD-4463-8146-0021EE94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C46-7118-4DB5-A921-2B9F3E16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16B-70A1-45F3-A6FB-65865043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3DD-2080-4AF3-9498-1E9244DB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2A7-4330-4549-9F69-859D95F8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A6C-3168-4DC7-B289-17CC26C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C933-C54D-4079-BD2A-471971972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oon Sho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7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4914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seen all of these moon shots, create your ow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ork alone or with a partn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create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aper provided to help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your idea, tell the adult.  Then he/she will take you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71880" y="152280"/>
            <a:ext cx="4857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50292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27:41Z</dcterms:created>
  <dc:creator>KPS</dc:creator>
  <dc:description/>
  <dc:language>en-US</dc:language>
  <cp:lastModifiedBy>KPS</cp:lastModifiedBy>
  <dcterms:modified xsi:type="dcterms:W3CDTF">2011-11-16T20:33:46Z</dcterms:modified>
  <cp:revision>3</cp:revision>
  <dc:subject/>
  <dc:title>Moon Shots</dc:title>
</cp:coreProperties>
</file>